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0.jpeg" ContentType="image/jpeg"/>
  <Override PartName="/ppt/media/image8.jpeg" ContentType="image/jpeg"/>
  <Override PartName="/ppt/media/image9.wmf" ContentType="image/x-wmf"/>
  <Override PartName="/ppt/media/image7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14.wmf" ContentType="image/x-wmf"/>
  <Override PartName="/ppt/media/image1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5BC-A455-4896-8776-C9B666E4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6DB-6806-48F4-A638-B0576CA0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23D-1658-43D0-956C-C32366CC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375-B819-4451-B086-132DBFD4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90E3-D7B3-45FB-8310-D39F531BF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37C6-AB24-43D4-BC14-7629C795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660F-AF0E-4620-A16D-36A2EBCE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4BD3-0840-4215-BDCA-B3A90E87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9FD6-4149-462D-96F9-BA5BA659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CB08-7643-431F-B31F-7E698C4D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D91C-5D83-4D3D-870F-6EB30B85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025-326D-4B0C-9C51-F2DF322C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728F-7E0B-4FD0-88CE-0F8A38A1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E13F-6107-4855-BCDC-AE08B0C5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BFFD-A4A3-4D7A-880D-5F9FE15C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9718-FEE2-4257-93EB-3E9CE592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12A7-13E0-4940-956A-7257FDFC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3451-D801-4358-A9B9-DD1AF7A5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D23-8337-4887-B6D9-73BD52C3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5BDC-67E2-459E-B56F-011DAC18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8C4-72E5-4F3D-BFBE-CDC5AB93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030-C076-4AE0-8487-FE034A78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43F-38D0-405F-A494-E3B09024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C5D-E668-42F1-BA47-647B8784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162A-C1D8-401F-9981-0087B7795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D866-F78D-4818-954B-DD33E32F5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’est à toi ! – Level 2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é 5 – Les personnes célèb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éta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____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’est-ce qui t’est arrivé ce weeke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 (être)_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4" descr="MCj04238360000[1]"/>
          <p:cNvPicPr/>
          <p:nvPr/>
        </p:nvPicPr>
        <p:blipFill>
          <a:blip r:embed="rId1"/>
          <a:stretch/>
        </p:blipFill>
        <p:spPr>
          <a:xfrm>
            <a:off x="1981080" y="1461960"/>
            <a:ext cx="548640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6" descr="b000cexf7o01_sclzzzzzzz_"/>
          <p:cNvPicPr/>
          <p:nvPr/>
        </p:nvPicPr>
        <p:blipFill>
          <a:blip r:embed="rId1"/>
          <a:stretch/>
        </p:blipFill>
        <p:spPr>
          <a:xfrm>
            <a:off x="2438280" y="1295280"/>
            <a:ext cx="4638960" cy="6515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’ai été privé de sorti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 (être) 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4" descr="MCj04238580000[1]"/>
          <p:cNvPicPr/>
          <p:nvPr/>
        </p:nvPicPr>
        <p:blipFill>
          <a:blip r:embed="rId1"/>
          <a:stretch/>
        </p:blipFill>
        <p:spPr>
          <a:xfrm>
            <a:off x="1828800" y="1360440"/>
            <a:ext cx="556272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 faisais la têt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23334340"/>
          <p:cNvPicPr/>
          <p:nvPr/>
        </p:nvPicPr>
        <p:blipFill>
          <a:blip r:embed="rId1"/>
          <a:stretch/>
        </p:blipFill>
        <p:spPr>
          <a:xfrm>
            <a:off x="3068640" y="1219320"/>
            <a:ext cx="31035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 (être) 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Picture 4" descr="MCj04238500000[1]"/>
          <p:cNvPicPr/>
          <p:nvPr/>
        </p:nvPicPr>
        <p:blipFill>
          <a:blip r:embed="rId1"/>
          <a:stretch/>
        </p:blipFill>
        <p:spPr>
          <a:xfrm>
            <a:off x="2209680" y="1371600"/>
            <a:ext cx="504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 suis tombé en pann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fire"/>
          <p:cNvPicPr/>
          <p:nvPr/>
        </p:nvPicPr>
        <p:blipFill>
          <a:blip r:embed="rId1"/>
          <a:stretch/>
        </p:blipFill>
        <p:spPr>
          <a:xfrm>
            <a:off x="1628640" y="1442880"/>
            <a:ext cx="588672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 (être) _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4" descr="MCj04238440000[1]"/>
          <p:cNvPicPr/>
          <p:nvPr/>
        </p:nvPicPr>
        <p:blipFill>
          <a:blip r:embed="rId1"/>
          <a:stretch/>
        </p:blipFill>
        <p:spPr>
          <a:xfrm>
            <a:off x="2133720" y="1216080"/>
            <a:ext cx="563868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 me suis perd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6" descr="leftImage"/>
          <p:cNvPicPr/>
          <p:nvPr/>
        </p:nvPicPr>
        <p:blipFill>
          <a:blip r:embed="rId1"/>
          <a:stretch/>
        </p:blipFill>
        <p:spPr>
          <a:xfrm>
            <a:off x="2286000" y="1371600"/>
            <a:ext cx="464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2781f"/>
          <p:cNvPicPr/>
          <p:nvPr/>
        </p:nvPicPr>
        <p:blipFill>
          <a:blip r:embed="rId1"/>
          <a:stretch/>
        </p:blipFill>
        <p:spPr>
          <a:xfrm>
            <a:off x="2514600" y="1295280"/>
            <a:ext cx="4402080" cy="6400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’ai rencontré mes beaux-parent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 (avoir) l’air 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4" descr="MCj04238300000[1]"/>
          <p:cNvPicPr/>
          <p:nvPr/>
        </p:nvPicPr>
        <p:blipFill>
          <a:blip r:embed="rId1"/>
          <a:stretch/>
        </p:blipFill>
        <p:spPr>
          <a:xfrm>
            <a:off x="2352600" y="1371600"/>
            <a:ext cx="483408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 es _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Picture 4" descr="MCj04238500000[1]"/>
          <p:cNvPicPr/>
          <p:nvPr/>
        </p:nvPicPr>
        <p:blipFill>
          <a:blip r:embed="rId1"/>
          <a:stretch/>
        </p:blipFill>
        <p:spPr>
          <a:xfrm>
            <a:off x="2351160" y="1371600"/>
            <a:ext cx="504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Picture 6" descr="Kaylynn_and_Benjamin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228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5105160"/>
            <a:ext cx="9144000" cy="68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anchor="t">
            <a:normAutofit fontScale="44000"/>
          </a:bodyPr>
          <a:p>
            <a:pPr marL="150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 suis tombé amoureux d’ell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150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 suis tombée amoureuse de lui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’ai eu un acciden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oops"/>
          <p:cNvPicPr/>
          <p:nvPr/>
        </p:nvPicPr>
        <p:blipFill>
          <a:blip r:embed="rId1"/>
          <a:stretch/>
        </p:blipFill>
        <p:spPr>
          <a:xfrm>
            <a:off x="304920" y="1469880"/>
            <a:ext cx="86868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 (être)_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Picture 4" descr="MCj04258000000[1]"/>
          <p:cNvPicPr/>
          <p:nvPr/>
        </p:nvPicPr>
        <p:blipFill>
          <a:blip r:embed="rId1"/>
          <a:stretch/>
        </p:blipFill>
        <p:spPr>
          <a:xfrm>
            <a:off x="2457360" y="1371600"/>
            <a:ext cx="4934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’ai eu rendez-vou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love-connection-logo"/>
          <p:cNvPicPr/>
          <p:nvPr/>
        </p:nvPicPr>
        <p:blipFill>
          <a:blip r:embed="rId1"/>
          <a:stretch/>
        </p:blipFill>
        <p:spPr>
          <a:xfrm>
            <a:off x="1523880" y="1327320"/>
            <a:ext cx="60962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 (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Picture 4" descr="MCPE06900_0000[1]"/>
          <p:cNvPicPr/>
          <p:nvPr/>
        </p:nvPicPr>
        <p:blipFill>
          <a:blip r:embed="rId1"/>
          <a:stretch/>
        </p:blipFill>
        <p:spPr>
          <a:xfrm>
            <a:off x="1981080" y="1415880"/>
            <a:ext cx="57913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 me suis disputé avec mon ami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6" descr="couple_argue"/>
          <p:cNvPicPr/>
          <p:nvPr/>
        </p:nvPicPr>
        <p:blipFill>
          <a:blip r:embed="rId1"/>
          <a:stretch/>
        </p:blipFill>
        <p:spPr>
          <a:xfrm>
            <a:off x="2209680" y="13716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u _____________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Picture 4" descr="MCj04238140000[1]"/>
          <p:cNvPicPr/>
          <p:nvPr/>
        </p:nvPicPr>
        <p:blipFill>
          <a:blip r:embed="rId1"/>
          <a:stretch/>
        </p:blipFill>
        <p:spPr>
          <a:xfrm>
            <a:off x="2664000" y="1371600"/>
            <a:ext cx="409068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break_up"/>
          <p:cNvPicPr/>
          <p:nvPr/>
        </p:nvPicPr>
        <p:blipFill>
          <a:blip r:embed="rId1"/>
          <a:stretch/>
        </p:blipFill>
        <p:spPr>
          <a:xfrm>
            <a:off x="2666880" y="0"/>
            <a:ext cx="4152960" cy="6095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b7"/>
                </a:solidFill>
                <a:latin typeface="Arial Black"/>
              </a:rPr>
              <a:t>Qu’est-ce qui t’est arrivé ?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5943240"/>
            <a:ext cx="800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’ai cassé avec mon petit am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Administrator</cp:lastModifiedBy>
  <dcterms:modified xsi:type="dcterms:W3CDTF">2012-05-14T17:36:31Z</dcterms:modified>
  <cp:revision>73</cp:revision>
  <dc:subject/>
  <dc:title>Allez, viens! – Level 2</dc:title>
</cp:coreProperties>
</file>